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4b01"/>
                </a:solidFill>
                <a:latin typeface="Eras Bold ITC"/>
              </a:rPr>
              <a:t>Click to move the slide</a:t>
            </a: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5326-9D45-4E3A-9587-613108388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0648-5E74-4FC9-BF33-0F367BC46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3640-DC73-4187-8D28-212E3B909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3B3F-4B6E-49F0-A868-8DB9455AF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DE32-EE39-4B46-AE0A-F5AE8CBEA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79A4-4735-44E5-AAC8-B1346C634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A909-968C-4984-AE50-626A3FC92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F660-4145-4199-B112-11D54C59E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6364-ECD7-4050-A66D-D56B2BD02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CDF8-A0B7-4652-8665-D4113A03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701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3972240"/>
            <a:ext cx="701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C663-94C3-4D54-A3DF-A4BD07A0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44720" y="106668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397224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744720" y="397224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6676-74D3-4568-8186-EDF2859D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2257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22880" y="1066680"/>
            <a:ext cx="2257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893120" y="1066680"/>
            <a:ext cx="2257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3972240"/>
            <a:ext cx="2257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22880" y="3972240"/>
            <a:ext cx="2257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893120" y="3972240"/>
            <a:ext cx="2257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DA2-BFB1-41AF-BFF5-06733997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578B-73C5-483D-BFF6-1158741F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70106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6D21-FFC6-4896-81E5-CE9E74AD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7010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5D1E-D15D-4901-ADF2-3824B76A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421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744720" y="1066680"/>
            <a:ext cx="3421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2617-9B70-48C8-9BF7-C0937DBC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48A4-1E07-49DB-8B5E-A3F69ED6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320" y="-360"/>
            <a:ext cx="9067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A4C1-14E6-4F0C-9F4A-3484F001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44720" y="1066680"/>
            <a:ext cx="3421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2280" y="397224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277B-43B3-4A6A-AA28-3C9D6BB8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70106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7BA0-3503-4C8E-A58E-1E31AFEA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421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744720" y="106668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744720" y="397224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F79C-FD29-4430-9B6B-D9A9CD21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744720" y="106668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280" y="3972240"/>
            <a:ext cx="701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6F7B-4D39-4602-9B92-52178A7E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701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2280" y="3972240"/>
            <a:ext cx="701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B1E8-F90A-47EE-ABD5-8E82BE61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44720" y="106668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280" y="397224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744720" y="397224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4F48-0BC2-492F-B2FF-509E8D8A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2257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522880" y="1066680"/>
            <a:ext cx="2257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93120" y="1066680"/>
            <a:ext cx="2257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2280" y="3972240"/>
            <a:ext cx="2257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522880" y="3972240"/>
            <a:ext cx="2257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893120" y="3972240"/>
            <a:ext cx="2257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D581-9317-4A5E-9575-DB152C7F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7010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632-B153-4F6B-984E-23E56C82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421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744720" y="1066680"/>
            <a:ext cx="3421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D8D-4EE5-4865-8907-3C2B194F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75F8-D626-4DB7-B13F-AD3C9EF4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-360"/>
            <a:ext cx="9067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5F44-BD62-4CA1-AFC3-5511FDFF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44720" y="1066680"/>
            <a:ext cx="3421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397224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732C-EEB8-40F9-93D4-BB0EA736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421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744720" y="106668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744720" y="397224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D9B-F6F6-4BF2-AF96-4579AE32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744720" y="106668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3972240"/>
            <a:ext cx="701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1A81-4CE6-4135-BF3F-D4EDE439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4b01"/>
                </a:solidFill>
                <a:latin typeface="Eras Bold ITC"/>
              </a:rPr>
              <a:t>Click to edit the title text format</a:t>
            </a: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66680"/>
            <a:ext cx="7010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44B9-B1C5-42B0-A756-563D1025DB09}" type="slidenum">
              <a:rPr b="0" lang="en-US" sz="1000" spc="-1" strike="noStrike">
                <a:solidFill>
                  <a:srgbClr val="000000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hippie_peace_gesture_hg_clr"/>
          <p:cNvPicPr/>
          <p:nvPr/>
        </p:nvPicPr>
        <p:blipFill>
          <a:blip r:embed="rId3"/>
          <a:stretch/>
        </p:blipFill>
        <p:spPr>
          <a:xfrm>
            <a:off x="6156360" y="2743200"/>
            <a:ext cx="3063960" cy="417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4b01"/>
                </a:solidFill>
                <a:latin typeface="Eras Bold ITC"/>
              </a:rPr>
              <a:t>Click to edit the title text format</a:t>
            </a: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52280" y="1066680"/>
            <a:ext cx="7010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542B-C816-4AC9-BBBA-1383F8837CD0}" type="slidenum"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4097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Hey Dude!</a:t>
            </a:r>
            <a:endParaRPr b="0" lang="en-US" sz="54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624816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Comic Sans MS"/>
              </a:rPr>
              <a:t>Answer this question in 5 minutes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Comic Sans MS"/>
              </a:rPr>
              <a:t>Question</a:t>
            </a:r>
            <a:endParaRPr b="0" lang="en-US" sz="4400" spc="-1" strike="noStrike">
              <a:solidFill>
                <a:srgbClr val="314b01"/>
              </a:solidFill>
              <a:latin typeface="Eras Bold ITC"/>
            </a:endParaRPr>
          </a:p>
        </p:txBody>
      </p:sp>
      <p:pic>
        <p:nvPicPr>
          <p:cNvPr id="93" name="seinfeld.mid" descr=""/>
          <p:cNvPicPr/>
          <p:nvPr/>
        </p:nvPicPr>
        <p:blipFill>
          <a:blip r:embed="rId1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182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Comic Sans MS"/>
              </a:rPr>
              <a:t>Question</a:t>
            </a:r>
            <a:endParaRPr b="0" lang="en-US" sz="4400" spc="-1" strike="noStrike">
              <a:solidFill>
                <a:srgbClr val="314b01"/>
              </a:solidFill>
              <a:latin typeface="Eras Bold ITC"/>
            </a:endParaRPr>
          </a:p>
        </p:txBody>
      </p:sp>
      <p:pic>
        <p:nvPicPr>
          <p:cNvPr id="95" name="seinfeld.mid" descr=""/>
          <p:cNvPicPr/>
          <p:nvPr/>
        </p:nvPicPr>
        <p:blipFill>
          <a:blip r:embed="rId1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118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Comic Sans MS"/>
              </a:rPr>
              <a:t>Question</a:t>
            </a:r>
            <a:endParaRPr b="0" lang="en-US" sz="4400" spc="-1" strike="noStrike">
              <a:solidFill>
                <a:srgbClr val="314b01"/>
              </a:solidFill>
              <a:latin typeface="Eras Bold ITC"/>
            </a:endParaRPr>
          </a:p>
        </p:txBody>
      </p:sp>
      <p:pic>
        <p:nvPicPr>
          <p:cNvPr id="97" name="seinfeld.mid" descr=""/>
          <p:cNvPicPr/>
          <p:nvPr/>
        </p:nvPicPr>
        <p:blipFill>
          <a:blip r:embed="rId1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118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Comic Sans MS"/>
              </a:rPr>
              <a:t>Question</a:t>
            </a:r>
            <a:endParaRPr b="0" lang="en-US" sz="4400" spc="-1" strike="noStrike">
              <a:solidFill>
                <a:srgbClr val="314b01"/>
              </a:solidFill>
              <a:latin typeface="Eras Bold ITC"/>
            </a:endParaRPr>
          </a:p>
        </p:txBody>
      </p:sp>
      <p:pic>
        <p:nvPicPr>
          <p:cNvPr id="99" name="seinfeld.mid" descr=""/>
          <p:cNvPicPr/>
          <p:nvPr/>
        </p:nvPicPr>
        <p:blipFill>
          <a:blip r:embed="rId1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1182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Comic Sans MS"/>
              </a:rPr>
              <a:t>Question</a:t>
            </a:r>
            <a:endParaRPr b="0" lang="en-US" sz="4400" spc="-1" strike="noStrike">
              <a:solidFill>
                <a:srgbClr val="314b01"/>
              </a:solidFill>
              <a:latin typeface="Eras Bold ITC"/>
            </a:endParaRPr>
          </a:p>
        </p:txBody>
      </p:sp>
      <p:pic>
        <p:nvPicPr>
          <p:cNvPr id="101" name="seinfeld.mid" descr=""/>
          <p:cNvPicPr/>
          <p:nvPr/>
        </p:nvPicPr>
        <p:blipFill>
          <a:blip r:embed="rId1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118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Comic Sans MS"/>
              </a:rPr>
              <a:t>Question</a:t>
            </a:r>
            <a:endParaRPr b="0" lang="en-US" sz="4400" spc="-1" strike="noStrike">
              <a:solidFill>
                <a:srgbClr val="314b01"/>
              </a:solidFill>
              <a:latin typeface="Eras Bold ITC"/>
            </a:endParaRPr>
          </a:p>
        </p:txBody>
      </p:sp>
      <p:pic>
        <p:nvPicPr>
          <p:cNvPr id="103" name="seinfeld.mid" descr=""/>
          <p:cNvPicPr/>
          <p:nvPr/>
        </p:nvPicPr>
        <p:blipFill>
          <a:blip r:embed="rId1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1182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Comic Sans MS"/>
              </a:rPr>
              <a:t>Question</a:t>
            </a:r>
            <a:endParaRPr b="0" lang="en-US" sz="4400" spc="-1" strike="noStrike">
              <a:solidFill>
                <a:srgbClr val="314b01"/>
              </a:solidFill>
              <a:latin typeface="Eras Bold ITC"/>
            </a:endParaRPr>
          </a:p>
        </p:txBody>
      </p:sp>
      <p:pic>
        <p:nvPicPr>
          <p:cNvPr id="105" name="seinfeld.mid" descr=""/>
          <p:cNvPicPr/>
          <p:nvPr/>
        </p:nvPicPr>
        <p:blipFill>
          <a:blip r:embed="rId1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1182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7:00:47Z</dcterms:created>
  <dc:creator>Cheryl Massengale</dc:creator>
  <dc:description/>
  <dc:language>en-US</dc:language>
  <cp:lastModifiedBy>Microsoft Office User</cp:lastModifiedBy>
  <dcterms:modified xsi:type="dcterms:W3CDTF">2011-09-17T09:36:06Z</dcterms:modified>
  <cp:revision>5</cp:revision>
  <dc:subject/>
  <dc:title>Hey Dude!</dc:title>
</cp:coreProperties>
</file>